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33697"/>
        <c:axId val="78575534"/>
      </c:barChart>
      <c:catAx>
        <c:axId val="65333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5534"/>
        <c:crosses val="autoZero"/>
        <c:auto val="1"/>
        <c:lblAlgn val="ctr"/>
        <c:lblOffset val="100"/>
        <c:noMultiLvlLbl val="0"/>
      </c:catAx>
      <c:valAx>
        <c:axId val="78575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3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D2A-6B9C-4BE3-9197-99B14435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156-1358-4EEC-9423-8A14665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257-6BB5-4432-BA54-96EC4E39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3FB-1026-4778-9CB5-5C31FB65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891-57B1-41C3-8013-1EB85B9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7CF-8824-4AC3-ABC5-445F429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8A7-A78D-44B3-9FF1-1FD51205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FB4-C9E2-4027-87BC-7AB8FAB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306-6EB9-4960-8D0D-FE2E566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9CB-9183-4FBB-ACCD-99C0DF0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C10-BC69-4649-AEF9-F11232AA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C37-6AA9-411D-AD5E-688CE86A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ACE3A-0ED2-4E26-B6F4-E9D2F89371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