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663"/>
        <c:axId val="1633351"/>
      </c:barChart>
      <c:catAx>
        <c:axId val="655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3351"/>
        <c:crosses val="autoZero"/>
        <c:auto val="1"/>
        <c:lblAlgn val="ctr"/>
        <c:lblOffset val="100"/>
        <c:noMultiLvlLbl val="0"/>
      </c:catAx>
      <c:valAx>
        <c:axId val="1633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19F-B775-4AB0-8A2E-0CCF1E6F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15B-3728-421C-9FF4-EBB46E20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6E4-8E92-41F7-9339-3607D6C0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732-FCEC-42A6-A0BA-5792C4F8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4B5-53C0-4E58-8B3E-4EE5033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1BE-AD0E-419B-868C-3BE59A19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372-BA6B-4E94-B6D3-426F6385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3C5-78FA-49EF-8951-3DCE1E6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27C-7A5A-45DA-A2EF-BE8D85DB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1A9-8AAB-4CEA-B13C-66E31FD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E79-C324-4BB1-A04F-BC964081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C96-C9EA-4ABC-8CF0-27CC501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05FC3-B4D1-4B5D-AD00-D658C11715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