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771839"/>
        <c:axId val="21165238"/>
      </c:barChart>
      <c:catAx>
        <c:axId val="877183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165238"/>
        <c:crosses val="autoZero"/>
        <c:auto val="1"/>
        <c:lblAlgn val="ctr"/>
        <c:lblOffset val="100"/>
        <c:noMultiLvlLbl val="0"/>
      </c:catAx>
      <c:valAx>
        <c:axId val="2116523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7183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79E37-0B62-4D5E-BF45-E366228BF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C67CC-CCFF-49DC-B140-E92A64653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AFEFA-F67B-424B-B14D-7DD968149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292E9-1549-4773-A22F-79E7BC665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D9134-D738-4C67-93BE-22881A486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22850-549F-4D60-B5F9-AF70261BE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0643D-0A42-43EF-B8A8-B53F81E91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3BD16-4284-4D13-89C1-D5DB56178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31CB2-7DE7-461E-B183-35DF74093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33BAC-3771-4AB5-B0FD-C69A84295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8F1E4-B2AC-43C0-907B-5366777B4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F03C1-80FE-4890-8B87-B77415A5A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A83D19-4BBD-4B1A-9AE6-5CA0FD72F58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