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5639"/>
        <c:axId val="45618104"/>
      </c:barChart>
      <c:catAx>
        <c:axId val="8695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18104"/>
        <c:crosses val="autoZero"/>
        <c:auto val="1"/>
        <c:lblAlgn val="ctr"/>
        <c:lblOffset val="100"/>
        <c:noMultiLvlLbl val="0"/>
      </c:catAx>
      <c:valAx>
        <c:axId val="45618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5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27D-59CC-4716-9007-F2C0D39C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E4C-57C1-4CE5-A39E-A77A741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EA8-6CD1-4498-A498-4118076D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983-C577-44DD-8D77-96414EBF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642-8B30-4495-806F-0DCF037B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124-6B8F-49FC-8F72-CF4CBFD6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EB2-0907-4170-A771-2D51706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A50-9BCA-4DF0-81BE-BE88B01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362-BE3E-4F0D-9FA0-E4FEC6A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272-975C-4967-B567-74EF541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D10-748F-49A6-A896-6BAA8719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9E1-9CC1-42A7-A220-9FF0C2CB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3E2D2-0F1E-4664-BF05-8ED9855274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