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16409"/>
        <c:axId val="17423991"/>
      </c:barChart>
      <c:catAx>
        <c:axId val="39016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23991"/>
        <c:crosses val="autoZero"/>
        <c:auto val="1"/>
        <c:lblAlgn val="ctr"/>
        <c:lblOffset val="100"/>
        <c:noMultiLvlLbl val="0"/>
      </c:catAx>
      <c:valAx>
        <c:axId val="17423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16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684-07A3-4405-B899-6A78F891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AF7-5748-4BA4-A46C-28646B41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B4B-AB94-45FA-B34B-196B30E2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CDC-ED62-46B2-B780-691232A0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A95-A9EC-48FC-BD73-F0B9AA89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4F8-19DC-465F-A121-F55B9004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CE3-50C6-4B73-9A32-ED4A867C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465-4B6D-4A15-BEB7-8D0F5353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7E8-599B-46B1-91E5-B6497191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F58-C801-4761-8395-61339B35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869-D5DB-465C-91AA-4F90ACA5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CC7-AD1F-4B03-8294-BBBBA2B8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AE2AA-04B4-4BB5-8A93-DBAA814D09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