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44279"/>
        <c:axId val="98984810"/>
      </c:barChart>
      <c:catAx>
        <c:axId val="81744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4810"/>
        <c:crosses val="autoZero"/>
        <c:auto val="1"/>
        <c:lblAlgn val="ctr"/>
        <c:lblOffset val="100"/>
        <c:noMultiLvlLbl val="0"/>
      </c:catAx>
      <c:valAx>
        <c:axId val="98984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4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A9D-8F11-486A-9C91-42B40F6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54A-03F7-4EA2-826C-F8468A2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950-1BC5-45D5-BF9C-02226E0E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E06-5341-4778-A90F-5889B4C7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0DF-05F4-456D-BD5E-FF0C739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612-446A-4B3B-8A36-8C570D9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B27-3189-4ADB-967B-E5DC841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54E-2C93-4667-B8F7-7A3F636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E41-8F8D-4368-8018-F02609F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4B8-1F5B-44DF-9D41-168CD07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481-9A2C-4700-8A68-A2A5762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CD0-D05B-4F8E-83AA-43A7D175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B599F-C4BC-46C8-A0B3-ECF838CCF8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