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17131"/>
        <c:axId val="82971304"/>
      </c:barChart>
      <c:catAx>
        <c:axId val="43417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71304"/>
        <c:crosses val="autoZero"/>
        <c:auto val="1"/>
        <c:lblAlgn val="ctr"/>
        <c:lblOffset val="100"/>
        <c:noMultiLvlLbl val="0"/>
      </c:catAx>
      <c:valAx>
        <c:axId val="82971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17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B13-2D74-4EE3-B212-69F1AE57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E52-5A23-4824-9FD5-F9C89A11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C43-106C-4DD0-8482-3F87E68C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D7B-95A9-4806-B15A-7792A1D9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314-916E-4C6E-853B-36223A44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076-B7C0-4C5D-B120-127C0BE9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994-DCEE-4096-BFA3-D05DE399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36F-1C98-4A6F-9445-04BE90CF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9C6-DCDC-47C5-921B-B1AAA396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50B-5853-42D4-BE3B-DC1AF4E8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93A-5F1E-42D0-98C9-976BC25A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608-1CA6-4E18-A097-F6E1710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9473F-E326-4BA0-BDB3-2F4BD29C58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