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621806"/>
        <c:axId val="92003332"/>
      </c:barChart>
      <c:catAx>
        <c:axId val="856218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003332"/>
        <c:crosses val="autoZero"/>
        <c:auto val="1"/>
        <c:lblAlgn val="ctr"/>
        <c:lblOffset val="100"/>
        <c:noMultiLvlLbl val="0"/>
      </c:catAx>
      <c:valAx>
        <c:axId val="920033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6218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E279-D72C-4A67-A66B-76AD1552E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E4DE-0EBA-4AEF-8559-00D5188C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B1EF-0727-41D9-BD28-D50D634F9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4659-2225-484C-9082-5C4468115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5101-E6F3-4D99-9609-72499E9F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D047-7968-4654-B6DF-B6B2497E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C30B-2A5E-4BD0-A36D-0930738E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2C6D-01F5-49BF-9117-960059F1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85F6-98BA-4744-936A-72D2BA4E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4242-409B-48FE-A881-36F5C408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BC75-3D3F-4E8F-8279-DDA1709B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DE88-744F-4323-9300-125ADA81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371B2C-1377-4CAB-8718-240B632575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