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546757"/>
        <c:axId val="20319752"/>
      </c:barChart>
      <c:catAx>
        <c:axId val="465467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319752"/>
        <c:crosses val="autoZero"/>
        <c:auto val="1"/>
        <c:lblAlgn val="ctr"/>
        <c:lblOffset val="100"/>
        <c:noMultiLvlLbl val="0"/>
      </c:catAx>
      <c:valAx>
        <c:axId val="203197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5467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2157-E1F0-4F7D-A122-DF518FD11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AAB9-4942-4F3F-9D01-DC4C719F2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E946-F6C6-4AA7-A6A7-7C39C4199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19E4-66C4-40BB-AD82-B6EEAF954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7B1D-AE8A-4082-BEE5-B4DC0E3BA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891E-059F-46EE-9A3E-5C4E126FF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1895-6934-49F5-8D5D-2BB02ADDE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2678-6935-4178-BA92-A2A275BC8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F2B1-EDED-4828-AE49-22706F3DF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04C7-4E80-4C89-A08E-E4BE064FB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72DA-429D-4082-A2AC-7ABAE9397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4401-D23E-4F13-A5B4-56F9265E2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66AC54-3377-4663-B1B8-D02B64366EA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