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915"/>
        <c:axId val="8609559"/>
      </c:barChart>
      <c:catAx>
        <c:axId val="1705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9559"/>
        <c:crosses val="autoZero"/>
        <c:auto val="1"/>
        <c:lblAlgn val="ctr"/>
        <c:lblOffset val="100"/>
        <c:noMultiLvlLbl val="0"/>
      </c:catAx>
      <c:valAx>
        <c:axId val="8609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8E8-A296-4694-934D-782DFB42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4CC-980F-4100-AD63-0C913F9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707-DAE7-4820-971A-09B09799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C4B-8A45-48D6-932C-9FF0D44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169-7E96-4A87-8C88-4A13B84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63A-6323-4EEF-8B51-39F9E25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015-5F7C-4E47-8AE9-C3FC543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8B6-57F4-4424-B272-6BC6CFE0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50B-39C1-4B6D-9ECC-26711C74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41-3494-4CB1-8B68-43716E1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BC6-B936-4621-B8AB-E768FD1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C12-E689-4290-A193-75E98C9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9D65E-DF80-4373-9AA8-393EBECA6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