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36874"/>
        <c:axId val="60430769"/>
      </c:barChart>
      <c:catAx>
        <c:axId val="46736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30769"/>
        <c:crosses val="autoZero"/>
        <c:auto val="1"/>
        <c:lblAlgn val="ctr"/>
        <c:lblOffset val="100"/>
        <c:noMultiLvlLbl val="0"/>
      </c:catAx>
      <c:valAx>
        <c:axId val="60430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36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973-8CA2-4F59-8D52-FB2AFDF8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91E-7EB8-4C95-9428-ACED2C3B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422-6052-479A-9939-E729A065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85E-2668-43AC-9C5B-74956417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1EE-A366-471F-AC17-CB1F8C21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102-FA98-4E35-80A5-F33A2557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164-2E4A-4678-8B15-897FF6F8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B18-19C9-44FB-8315-1AE464F6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D5B-366A-4531-8144-88A90B9A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247-C1F4-4971-9EB6-5C14D72E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B2F-718A-4AEA-BFD0-5FA79F16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31D-A689-4A73-95E7-A3FB257C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8223F-7FEE-44CF-85D6-C576BEEBF7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