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46557"/>
        <c:axId val="36669269"/>
      </c:barChart>
      <c:catAx>
        <c:axId val="742465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69269"/>
        <c:crosses val="autoZero"/>
        <c:auto val="1"/>
        <c:lblAlgn val="ctr"/>
        <c:lblOffset val="100"/>
        <c:noMultiLvlLbl val="0"/>
      </c:catAx>
      <c:valAx>
        <c:axId val="36669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465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BCF-DD42-4404-8D47-344EF238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1EB-5A9D-474B-8F49-89CF72F5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A88-6819-4C71-A9F2-009BF5C6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BCD-569F-480E-9089-8AC8912C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069-C601-4BE1-80FA-A1FD4CC4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A9B-64D9-493E-A239-3B5C437D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EDB-2527-4926-B6C3-A243820E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41D-FF76-493E-97BB-4A75CC55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4D45-4FD6-43E3-B002-181B7A42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D1E5-3120-4E2B-90A4-2D54F8B3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F9A2-AFDC-4F9A-8008-3C187938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856C-4C5C-4772-8C24-0B5B7036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7B145-F465-429F-ACB5-CF89587F48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