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22711"/>
        <c:axId val="28755999"/>
      </c:barChart>
      <c:catAx>
        <c:axId val="96222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55999"/>
        <c:crosses val="autoZero"/>
        <c:auto val="1"/>
        <c:lblAlgn val="ctr"/>
        <c:lblOffset val="100"/>
        <c:noMultiLvlLbl val="0"/>
      </c:catAx>
      <c:valAx>
        <c:axId val="28755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2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907-70F8-481C-96F9-92020D03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4F4-67D7-4A1F-8B5E-E9E9A7AD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33D-9025-4244-BE8B-67178BFE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E9E-C113-4E31-AFB1-5D859166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685-7061-4619-98B2-BDE3794A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809-81FF-42F5-825C-98289483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8D2-D307-4C30-B6B7-F88B521A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844-2F56-4FCB-8816-2A53AF44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352-6F57-4127-B16B-2C3E954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6F3-2406-41BB-B891-4E1AAC59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34E-0067-42BA-873C-58BA912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745-E4A2-434A-A36B-59C2C9CB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EC0DA-E855-43B9-85DA-1394DD1E0C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