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72101"/>
        <c:axId val="73147846"/>
      </c:barChart>
      <c:catAx>
        <c:axId val="78772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47846"/>
        <c:crosses val="autoZero"/>
        <c:auto val="1"/>
        <c:lblAlgn val="ctr"/>
        <c:lblOffset val="100"/>
        <c:noMultiLvlLbl val="0"/>
      </c:catAx>
      <c:valAx>
        <c:axId val="73147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72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745-75F3-4DB4-819C-3412E503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D4A-03A1-43C4-88FD-EA147120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FB2-47D6-4578-AB2F-4F39BE49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5B0-0698-48FD-9B0E-615D7125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013-7AED-4EA2-8E62-DD9BDDC4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74B-C084-4697-960C-27BD0271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E8E-523F-4306-9C58-2DCC6FBA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CED-F710-49AA-987E-B56F1E06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28D-A7E2-4ED5-9F14-18A171B0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B4F-758E-421D-8EE0-A4BDA1A5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EB2-48FF-44AF-AF50-32DA6BEC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881-2059-4014-96D2-2FA5AC56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3940A-466E-44B6-80FF-CBBDB7637E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