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0290"/>
        <c:axId val="24847282"/>
      </c:barChart>
      <c:catAx>
        <c:axId val="4880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47282"/>
        <c:crosses val="autoZero"/>
        <c:auto val="1"/>
        <c:lblAlgn val="ctr"/>
        <c:lblOffset val="100"/>
        <c:noMultiLvlLbl val="0"/>
      </c:catAx>
      <c:valAx>
        <c:axId val="24847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0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9BA-2E3C-46F5-A6C8-7D9047A3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BAE-BB6B-4222-88EA-AECAA48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F12-99DE-446F-B52F-483C33FD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090-8F01-4915-8E05-CE099576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681-F9CC-46B5-820B-29AA676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4B8-F151-4A98-8B28-835AC80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892-CF4F-4F8E-8414-54748158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5F4-B6E9-4A47-8B80-7AFDEBEF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F0B-A530-4CB7-819D-7E97053C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AFE-A493-45CE-8C40-AF9DDA0B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8ED-A124-4B7E-8A82-FAD5597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F09-3BB9-43F4-8864-F33E8555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C97D3-A6A3-45CD-9986-C2BB70948A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