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13790"/>
        <c:axId val="6363461"/>
      </c:barChart>
      <c:catAx>
        <c:axId val="48813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461"/>
        <c:crosses val="autoZero"/>
        <c:auto val="1"/>
        <c:lblAlgn val="ctr"/>
        <c:lblOffset val="100"/>
        <c:noMultiLvlLbl val="0"/>
      </c:catAx>
      <c:valAx>
        <c:axId val="6363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13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516-2ABA-46E2-8931-FC3A93C0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7B0-8D86-42FD-977B-5CD4BB7B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602-A417-4F4E-A0D4-0EACEA5A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0D7-9F7D-4070-B0C3-335BD8F6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51A-878F-40DD-95AA-947EC30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25C-9AFB-4AA0-835F-10FA650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FC8-5946-4DFF-9E34-553DFB4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73C-9BB7-4D19-828B-35705282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1AF-BBC8-4ED9-A2F2-3C28153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822-6EBA-4DBA-BFAF-D6207BD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983-4053-41B0-8DAE-1FE0314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FE4-7FC7-40FF-8F19-D95A20B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21395-5225-4AD9-9B06-5EB4237485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