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D52A09E-FF25-4020-8BFD-5AE4AFD9348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B1229AD-B028-45FE-B021-FCBDC9183CD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95949AD-C50B-4132-8FED-1AB81842AD6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913CB6D-7149-43CE-A6D4-371D9CEB958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9C233E3-A0E8-4F55-845A-7490176F06A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5237733-024C-45AE-A892-F7BE3683D65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BA6B57B-598A-482D-9C6A-9D9E062E91B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1C40659-452C-44DF-9D3B-CD7D178E9E7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2E73114-30CF-400D-ABFF-B89DF1188A5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0915A09-F056-437D-8CE9-221A1393212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328F9F5-94BD-4F80-9815-FDBB8FC8CCE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C0CCE89-3BB1-4053-A72A-50D15BF159A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484702B-30E9-46BA-8E9A-F184CDF9527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FEB16C9-4FD2-425C-A664-B1195089092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6340D50-10A4-46B9-9C25-C5A9D913727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F303C74-EC75-4A25-9AD6-199EC246035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680C4AE-D144-4495-8257-AF2483BB761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9D16D3D-A48C-4EA6-944E-5834077BF44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15C6ED4-ABC7-4CFB-A6D0-8EFD0FB28EC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898F3DD-24C1-4C4D-843A-E78F8E96841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617FEB5-38BF-405E-A04E-F6ABCB10832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471827D-77EE-42A5-AA70-13E72A3DDBD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0183148-205A-43C0-BC67-919592C841B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8D956B2-DA0A-47EF-8FCC-D568AF2E7F6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77EF8AD-027C-45B3-A433-75F1C86C1B2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DEA7AE3-32B3-4011-8F61-844A71E2C8C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58F6DFC-33F0-4870-A922-027996B8C91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F916C02-F6EE-47FB-B095-53B513E43A5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54823C4-3D2B-49FA-B8CC-3E472D892F2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AC61CE6-3C35-426C-AC79-9D7A339761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0DEDA84-3DAA-4C33-9E1F-34EA9505A06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840C656-2B4C-4D07-B597-8BA20ED1CA4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E38A81F-A769-4031-944F-AB28E903952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096C37A-D26B-4804-B57F-4364C9691D4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8F81B1-14A0-460F-90D9-21F5BE1B181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411DA18-3B88-4BD4-9BC3-1D6AC0EA00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F0CEB-B09D-4DEF-AFBC-E7AF6602E8DD}"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1B2FA-E4DD-433C-8369-B88B975442C2}"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10B4DC5-4B73-45F6-B3CC-80975DFC247B}"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949168F-4748-4343-B3D5-F8C1C3F50EB9}"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0C9A972-BDE5-4ED7-8B95-9CFC85EC84CF}"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73509C6-4797-4939-9056-7A4F62F46D1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CD737E0-887C-4AC1-AD35-669DD6238A24}"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2080A76-16D1-4870-9787-066509915630}"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99E57E2-0B85-4579-9941-78669A82F989}"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948E8F4-4FB7-4A66-ABB9-98388A0FD4FB}"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38A8569-14F7-4570-8580-1160B8F22CB3}"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4A2F9B8-6A03-4902-A268-2E1DE44F7D61}"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F21461A-5763-49B3-A711-C80E0F1CB195}"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0885F0A7-AC7D-44D5-9B0E-63D7280D2F5B}"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0688E0E-1A06-488E-AB7F-CFBB03E1D79D}"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AAA12C0-0638-4D23-8F97-80924118E35E}"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C39C0AB-1629-43E1-A644-61DDDEC2DEF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FE9059F-BA96-4411-B441-BB01206829C4}"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EE38DBF-D562-4F6C-A903-BFBF4174F0C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14BEA30-E17C-4639-94F6-DE1BADBED12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4701B28-23ED-44F6-ACC1-D1FF56635059}"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0D444B9-D801-48B1-8343-AA1260FFAAF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F6D3E2B-BFC1-4CD3-BC9D-48726AC0672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BD5C167-1D18-4B0D-A6B4-82F6E38AB09D}"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AB862CD-718A-4154-B553-176FA568D62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F7EC6B0-B3AF-4BC3-93BC-7040B4DF300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A288F02-4497-4A60-847F-DC001376370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971D22B-F664-466A-8CE7-2D3BD8C9493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04020A6-760D-4D8B-B023-D8A2365DEF34}"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FF2DE6C-6C45-4378-A098-FFFCFB25B4E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AE5952C-7E7F-40C9-9E81-AF5B2A68715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70877C7-B8E2-4279-8EFD-455B8F81A3F3}"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B16BE41-BA9C-4DF2-80EA-0E17E76EDC7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51FF476-1E23-43A2-8556-2A382F8598E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1DEC1CF-61BA-48FC-A438-151D4DE7D76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C170CC7-4D8E-481C-8C5B-E14F98B1378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14CC821-F9C2-43A8-AD12-3C7A20FE527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B480A47-4B39-4A18-96C8-0B05FD42E96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5858908-56A5-497D-9CB3-BF65B24C8CE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9370160-C096-4061-9FCB-4565E89F0655}"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3AA3674-6AD6-47A1-88A3-3C6C2D198382}"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C1A99F3-CF2C-4ACA-9A26-5E2EDCD33E45}"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846EC05-5A12-4684-9414-4FFDBA099AAC}"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EB0D8A0-2238-4781-86E6-37E6DC8673C8}"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0593C68-A51E-4928-9933-28CC57928415}"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B701912-FEA8-43BD-A69E-AFBA55B9DD97}"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3CDF251-6633-4BB5-AC15-65D374CF76A8}"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DB816D7-A697-430E-BA2F-8268231F7B8A}"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976F027-70DB-460D-A46C-FB42E8A1A0BE}"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E7F60CB-9F5B-4E84-9840-23662724F941}"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A767170-BFB7-4D2B-942A-8429A0D21DAB}"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69DA63A-B329-4D1A-9912-F87F4AF1606D}"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2AE3DE9-4EE8-44C5-A4EC-325B71A07BFE}"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4065ED9-783E-4776-B330-37540771BFE7}"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917D7A3-9367-482C-B3F4-19B15E6A0C73}"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29DA820-BACF-4363-A08F-D1041EA3DAB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CEBDBC6-886C-4F51-B35C-2553B82DFC6C}"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E377516-8DCC-4722-93B0-1EB04747421F}"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618536D-AC28-48C3-A530-95B8D56A18F4}"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40C294C-58C1-4B1C-A5F4-62312DDE3718}"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E84190F-9B58-471F-BBE3-3897D06CBFB3}"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EC679D3-C730-4F64-BAE7-C0CC2AB5013C}"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D66FD72-DE25-40DA-9CE5-21FA4C468424}"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67D704A-0E2A-47BB-BF28-8139FBCEC9CB}"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AF3357D-40B8-47AC-97BF-F34315339C33}"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F30C558-E781-4489-AF23-6A7A332C5D7A}"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15635EE-5C5F-464F-A8DD-45F0CAC2FAE5}"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64022AB-F3FD-4D82-BC6B-E3BA123EDBED}"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1370331-811F-47B5-9E03-9E528EFFE3D6}"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776F15A-1732-48A3-8EA3-6704837650BB}"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5A0F142-1771-4781-BC35-E559A7729C75}"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4257AB0-7711-4B4C-A32C-4D1A09333FCD}"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F2BDC4F-3C07-4CB2-88AD-46B241398237}"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6BD01B7-6EDB-4E81-AFB6-7595C8F2F5A7}"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D4DDC20-DE40-485A-AF4D-2B298C815915}"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70CD2C0-DF16-4763-BF3C-CBB42988AEF1}"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1B742D4-51F7-40BC-B565-47FD099F80C3}"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52A9438-D703-4347-9C8B-76B5D639821B}"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E5AD801-DCE6-418E-9D92-6883AE65871F}"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C012DFE-795E-4E92-AF38-6E6BB6A2BDA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EEACDC8-4215-4C42-A374-18BF96E7E352}"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C1CD33F-8A9A-4AF3-92BB-07E1174AD5B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EDA094E-F44B-4A9A-9C51-7A8C5B8660F8}"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5E4FA46-FFCE-48B3-A746-1C014C3D52A3}"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0A8D4B9-4FFF-4000-BD38-90B0DE2813F8}"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B571B33-A029-4A1D-B0AE-9442EC012976}"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24E5F2B-EE5E-4AB7-BBCD-0B605F3590F8}"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E4FAD38-385A-4053-9AAF-B83E57621F03}"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FBD51FE-8AF8-445F-8102-0472C45C3064}"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876C113-5B8A-4C9F-961C-BBA5427FD11D}"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8AE6B69-C6B1-4F11-88F2-E32A070EFCD2}"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4840F04-2199-41B0-B6E2-A02245BB6DF9}"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282D6C2-D34E-44E7-B645-D42D5AFF4A3A}"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2E50651-F1AB-460E-97AB-BC6FCA49C9F1}"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2D86E0B-2062-46F2-B018-67B39E91F86A}"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0ABECF8-59F0-440A-AFAE-491BE4A5A633}"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F94FDAC-7AE3-4576-B99C-68B93799173C}"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27FBD07-D8A9-4DD0-93F2-2212985A7214}"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A929E7C-47B6-47E4-B38E-D1EA6A82DEEA}"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2A65F863-F84F-4D7E-BBE9-140DE74BEA2F}"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2AB238B-45F0-4209-B1B4-E217998DD9F2}"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1F6A2C9-23E4-4DC2-954C-C3F6431EAFC4}"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496E5E4-0791-4E85-8A12-1D70DBDDF147}"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FD55BDE-4654-408C-98C3-6D6FFBC65A6C}"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611D9AD-8E99-41CB-93D2-D1B4F52D18D5}"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8D92157-04CD-47E9-A03D-DA03F0E9C9BB}"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27D54BF-5472-4F8F-9FBA-6D0ACF575049}"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292379D-8FEA-4476-8AE6-CCE70D6E862D}"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6953328-744C-44FF-A2E0-CA9FDA3EED04}"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B077AFF-D3AC-420A-9457-BF4FD996ECC3}"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53DB47F-F88C-47A1-8913-8655B1BD053E}"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6BC1A5D-4EF2-4970-9DAB-8C29958B5D5A}"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2064F89-58D6-448B-AC9C-8D9EE82E6390}"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