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76283"/>
        <c:axId val="70189729"/>
      </c:barChart>
      <c:catAx>
        <c:axId val="64576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9729"/>
        <c:crosses val="autoZero"/>
        <c:auto val="1"/>
        <c:lblAlgn val="ctr"/>
        <c:lblOffset val="100"/>
        <c:noMultiLvlLbl val="0"/>
      </c:catAx>
      <c:valAx>
        <c:axId val="70189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6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478-B30E-426D-B1EB-AAEDF4F3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B51-46C3-4564-96C6-D9DF935D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5D8-3EF9-4290-8F2F-E1978C8E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975-26BA-426E-82CA-C4298581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1B1-3294-4846-92B5-52BDF080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CD2-2393-4205-A65F-759EB7D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854-6010-487E-9E8B-336C7AF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A9C-73CB-4DE6-8407-5D1D33DE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998-B4A8-4617-8BCE-F35359D1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D42-D36E-45E2-A5FF-40368991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CAB-3BBF-4795-98C4-E39AB8B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A82-DD52-4CED-A43A-5AA18810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59D27-C053-4F54-8B84-A1B39DD4C8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