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4507"/>
        <c:axId val="24313482"/>
      </c:barChart>
      <c:catAx>
        <c:axId val="1524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13482"/>
        <c:crosses val="autoZero"/>
        <c:auto val="1"/>
        <c:lblAlgn val="ctr"/>
        <c:lblOffset val="100"/>
        <c:noMultiLvlLbl val="0"/>
      </c:catAx>
      <c:valAx>
        <c:axId val="24313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4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4EE-0B0D-453D-933E-9DF9A1F5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21A-B484-43D7-920D-1CA17470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0DF-027C-4070-9C07-562580FA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7DF-92D8-45A1-BF78-F032E47F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FD5-2EB9-4CC6-8370-3CD28734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071-C820-4B28-811E-8BFA4DA6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4D5-11CB-4E00-B5DD-1D8F4C88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0BB-9794-43DE-9937-937ECC9F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8B3-0459-46F6-8A5E-B3B29F20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69C-983C-4831-A516-997C4B9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B18-0A03-4890-B364-B51517AF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038-5FFC-4859-A900-396F3F9A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BB6EF-73F3-4BA4-A11A-12747B14EC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