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92768"/>
        <c:axId val="51860206"/>
      </c:barChart>
      <c:catAx>
        <c:axId val="18927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860206"/>
        <c:crosses val="autoZero"/>
        <c:auto val="1"/>
        <c:lblAlgn val="ctr"/>
        <c:lblOffset val="100"/>
        <c:noMultiLvlLbl val="0"/>
      </c:catAx>
      <c:valAx>
        <c:axId val="518602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927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8733-F066-41AF-9FF0-100B4B3A9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779B-CFCD-45CD-A713-DACCEF6CC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5869-A80B-45E9-B0FC-3BA312C53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787E-C63C-4505-B591-BF56B5835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7D6B-77CE-463F-9FAA-57AFB439A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DD65-4217-47CB-89E9-33EF59DC4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8399-8D81-4817-AE7F-39DA11CEA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78BD-9660-4AA0-A225-6752F5FAA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7A4B-5095-48E3-88D2-AD4091AAA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63C1-4EC3-4D5E-AAC7-AF5FE4723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06B8-F28C-42A7-AB28-AC43CA568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3841-CA60-4F14-99B6-A342A6AE7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CA2069-F6AF-4282-A5CA-912FF44B483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