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09167"/>
        <c:axId val="4053029"/>
      </c:barChart>
      <c:catAx>
        <c:axId val="64409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3029"/>
        <c:crosses val="autoZero"/>
        <c:auto val="1"/>
        <c:lblAlgn val="ctr"/>
        <c:lblOffset val="100"/>
        <c:noMultiLvlLbl val="0"/>
      </c:catAx>
      <c:valAx>
        <c:axId val="4053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9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E7C-4CBB-4F3A-9A0C-3042197D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348-3281-4CEF-8687-28E145D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1CB-2064-445F-A90D-1CCD7C96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3E6-D2C6-4878-9F49-2B91E68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730-4D84-4B12-93D6-35A9EEBC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010-00F4-41E7-8B43-D0162F89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6E2-72E8-4211-8787-D1D61734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600-86B8-4698-806C-609E801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F20-680F-4626-8BD3-4638B1B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A12-C0FF-4185-9DB7-9AD77C8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36E-4C5B-4BD7-AAB1-63CCC9B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B82-A610-4294-ADDF-B7BBEFC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050B1-D5BC-4973-AE38-70ACD0C7E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