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74014"/>
        <c:axId val="54060940"/>
      </c:barChart>
      <c:catAx>
        <c:axId val="97474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60940"/>
        <c:crosses val="autoZero"/>
        <c:auto val="1"/>
        <c:lblAlgn val="ctr"/>
        <c:lblOffset val="100"/>
        <c:noMultiLvlLbl val="0"/>
      </c:catAx>
      <c:valAx>
        <c:axId val="540609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74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AAC1-116D-4C34-AA42-175AD31F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1DE-E614-4030-B9E6-FEEFB296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A94-8967-448B-A5B7-4D7E04B2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EDC6-0238-4F72-9028-E109CCD9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5EE-8AFC-4E44-A31B-5202D520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48C-1767-4A71-980F-423FC22A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2606-72E1-4921-A6D2-D9FF4583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71F5-9952-4FA4-9993-253E2EE9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0F15-93BA-47F6-984E-A64865AD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86E-9A52-4FEB-A321-2E4D4C5D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71F-DF5F-4746-B3C6-D561B9DE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A525-CF5D-4652-9B2E-8395A888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D1443-B9E5-48DD-882A-7E9B42CFFB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