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87670"/>
        <c:axId val="64588511"/>
      </c:barChart>
      <c:catAx>
        <c:axId val="40287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8511"/>
        <c:crosses val="autoZero"/>
        <c:auto val="1"/>
        <c:lblAlgn val="ctr"/>
        <c:lblOffset val="100"/>
        <c:noMultiLvlLbl val="0"/>
      </c:catAx>
      <c:valAx>
        <c:axId val="64588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7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786-2DD1-4324-A3FC-8C457285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62B-68B1-4C26-B79E-2082422A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04B-1C3B-43D2-AF0E-CF9B38AE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04C-1216-4EC3-AA50-C3D3C23A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7D6-E733-4484-B005-2B541C35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54B-7C30-44E1-AEE9-6E845193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331-9CDE-4AA6-B16F-6ED322B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9E8-A0E1-4C48-B773-BD61156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515-21F1-4CCB-8AEC-37806E3A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E50-C6AF-4A1E-BB99-8832D20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52E-FEA2-41CD-A819-2AD91C6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560-9147-42A4-876C-0C0AEDE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4B861-C75C-4E55-8EA4-97BBC1F94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