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35134"/>
        <c:axId val="78848354"/>
      </c:barChart>
      <c:catAx>
        <c:axId val="96635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8354"/>
        <c:crosses val="autoZero"/>
        <c:auto val="1"/>
        <c:lblAlgn val="ctr"/>
        <c:lblOffset val="100"/>
        <c:noMultiLvlLbl val="0"/>
      </c:catAx>
      <c:valAx>
        <c:axId val="78848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35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11A-41F1-495C-93C8-F4F406A1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C88-90E3-407A-B425-1687AB63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33D-92BA-45CA-AEB1-FC2CEC67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7EE-4903-47B6-9138-29DD79F8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565-B533-4AAB-B935-7799954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BA5-B2FE-473C-A9E1-482C957D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6AD-E1E5-4626-A168-7E759574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F11-E547-4FBD-B72F-77312C99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D1E-D601-44AC-90DC-8F2C3878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D95-E48C-4B07-A98A-B79C86D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9BC-A89E-4C8C-B155-9B8B607D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13F-D286-403B-AE96-BBE6088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1BF07-9B0D-49AF-928B-4929480E56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