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48405"/>
        <c:axId val="72428938"/>
      </c:barChart>
      <c:catAx>
        <c:axId val="52348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28938"/>
        <c:crosses val="autoZero"/>
        <c:auto val="1"/>
        <c:lblAlgn val="ctr"/>
        <c:lblOffset val="100"/>
        <c:noMultiLvlLbl val="0"/>
      </c:catAx>
      <c:valAx>
        <c:axId val="7242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8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F1A-9623-4D5E-8755-C00A7F7F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A5F-12DA-49EF-90B9-83F447C1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D97-6F52-4F7F-8A6F-97BE593F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FC9-4419-4CFF-93C9-813FBA72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F40-3012-4962-B193-1745675A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5FB-A70B-4D94-930B-BE0EA29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5BA-CC23-4CFC-81A0-6485167F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953-4314-426A-8C9E-C3B20A8C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89B-3D21-4099-897A-E7BF4BB9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8DC-5E5F-4D85-9336-B66EB87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981-7345-405E-B4B6-28CF78C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A52-4FA1-431F-A630-8A66D4E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33A8D-0A98-471F-8E39-308D0A5734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