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11528"/>
        <c:axId val="26905876"/>
      </c:barChart>
      <c:catAx>
        <c:axId val="55211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05876"/>
        <c:crosses val="autoZero"/>
        <c:auto val="1"/>
        <c:lblAlgn val="ctr"/>
        <c:lblOffset val="100"/>
        <c:noMultiLvlLbl val="0"/>
      </c:catAx>
      <c:valAx>
        <c:axId val="26905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11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F03-3576-40DC-9DE0-3C8C3CE0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7B2-537D-432E-9FC7-64538FA8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0DD-06DF-460C-AD5A-83958E18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770-8825-4674-923E-B60CDABA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7F7-9E3C-4EE4-8C95-93D97E46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AD2-3114-4739-9E33-E544BBC5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256-4268-457C-95FD-D030F7F3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A3F-7C12-466D-A3BA-A00B2262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A26-49C8-4729-832C-8E2268B3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3B9-5663-4937-A7BC-AE716E2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968-F8DE-4F64-BFBD-5D561A86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535-645C-47FC-AF0D-72E7436D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F85EA-C6C1-4AE2-AE16-901C90894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