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3891"/>
        <c:axId val="97682690"/>
      </c:barChart>
      <c:catAx>
        <c:axId val="5523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2690"/>
        <c:crosses val="autoZero"/>
        <c:auto val="1"/>
        <c:lblAlgn val="ctr"/>
        <c:lblOffset val="100"/>
        <c:noMultiLvlLbl val="0"/>
      </c:catAx>
      <c:valAx>
        <c:axId val="97682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3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BA9-3D25-4C24-B758-F4E73AD2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8C8-3FD4-4C86-8B54-E345FA3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B67-D39F-4E3C-8310-D50C4582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168-24B6-4B81-87A5-24FBDB3B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D77-4E6D-4DFF-93B5-809C3A0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725-B1C8-4C89-A1DE-30DEB36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D16-00BA-4707-BD3C-DF48264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5F1-11A9-4BF1-9D8D-9B5E3DA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3D3-DEC4-45E3-BEEC-6B895D16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840-33CE-49E7-B5DB-5308CBA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305-516F-4896-8B6D-3763C6A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F43-D09F-4897-B759-B17AD4B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BEAFD-07D5-47A6-9FB1-5DE7DA4B6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