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41105"/>
        <c:axId val="87393598"/>
      </c:barChart>
      <c:catAx>
        <c:axId val="15941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93598"/>
        <c:crosses val="autoZero"/>
        <c:auto val="1"/>
        <c:lblAlgn val="ctr"/>
        <c:lblOffset val="100"/>
        <c:noMultiLvlLbl val="0"/>
      </c:catAx>
      <c:valAx>
        <c:axId val="87393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1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580-DDE2-4580-B57D-9C3CB9C8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A38-E34A-4B20-BD4F-450ADF4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87D-ACE9-4861-946C-D7892B64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3F7-08C6-48C0-99F6-0B2F74BB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322-C204-4531-BB44-006753EE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17B-6ECE-43BA-9F23-1A5C8FE0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7AA-3538-43E0-9A0F-0EC843B5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E31-042E-4F80-B483-649C357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934-8B65-47E3-A8E6-04201E1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36E-0C77-4E26-81CA-2BB7718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A95-0733-4DDD-AB0A-8290C1D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139-E031-4122-AFA0-9DDEFF2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EA0C-DAFE-45E9-849A-7182C45A7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