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435945"/>
        <c:axId val="70012449"/>
      </c:barChart>
      <c:catAx>
        <c:axId val="984359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012449"/>
        <c:crosses val="autoZero"/>
        <c:auto val="1"/>
        <c:lblAlgn val="ctr"/>
        <c:lblOffset val="100"/>
        <c:noMultiLvlLbl val="0"/>
      </c:catAx>
      <c:valAx>
        <c:axId val="700124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4359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4E8D-DE29-423F-BBC5-95A91F9DA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6EC6-BA9F-4F4B-AF65-A312E415D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66EC-5F03-435E-9075-33F8D58FA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07E8-C5BF-4E6D-8923-A79FB56D4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01D0-771D-401E-A086-858AECC60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6D54-E8DC-42DC-A1D7-EEF490B07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ED08-0878-4C99-BB4C-90D1D6A1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268C-4CB7-4484-8C33-FE573E718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2ADE-0187-4714-8B6D-F8B9F9A1E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8727-5E42-46C2-AE33-8FA10066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9A5C-A9B8-4346-90DA-B42CA102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7D75-5E5D-4FA6-98B5-2BD728F6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F405FA-F956-4E22-B9F7-BF1E4E85234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