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27710"/>
        <c:axId val="31273630"/>
      </c:barChart>
      <c:catAx>
        <c:axId val="314277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73630"/>
        <c:crosses val="autoZero"/>
        <c:auto val="1"/>
        <c:lblAlgn val="ctr"/>
        <c:lblOffset val="100"/>
        <c:noMultiLvlLbl val="0"/>
      </c:catAx>
      <c:valAx>
        <c:axId val="31273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277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0848-93AF-471C-9BC6-2B5CABD31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D190-37B4-482D-A333-8BAD3547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30B-5A19-4050-A724-841AF2BD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7E4-0573-40E4-9838-61F17F8E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38D-36F6-4ED5-BF8B-983364EA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1DC-F9C0-443E-A6C0-D220FA35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8701-DE91-46BD-8F0A-4FEC6720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63FA-C834-4E0C-B65F-2DCE7F45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735-5CD8-4D28-AAC9-3ECAB4E5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AFF-DA20-48DE-84F6-C368BE21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DB77-D0A1-4E74-8F3D-88B9DF1B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E07-FAEE-4068-99A0-9AF995AB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CE336-F566-4AD2-A552-474A5744C5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