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729192"/>
        <c:axId val="51066974"/>
      </c:barChart>
      <c:catAx>
        <c:axId val="887291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066974"/>
        <c:crosses val="autoZero"/>
        <c:auto val="1"/>
        <c:lblAlgn val="ctr"/>
        <c:lblOffset val="100"/>
        <c:noMultiLvlLbl val="0"/>
      </c:catAx>
      <c:valAx>
        <c:axId val="51066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7291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FCE-5EBC-4431-8E84-4DE0233E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835C-70AB-4459-A9C0-DA8DE89F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BFEF-6CCA-4940-9CBC-FF93D217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1736-1316-4206-B2EF-8128D405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81F-DF31-4E10-83D7-ED41706E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3665-B0F4-448A-81F6-287651CF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96BF-200C-4A11-B123-4D2E3993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581B-FE11-4DC4-B87B-1B1A6D75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5F33-CFAD-4E11-9EFC-B699A897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3274-129A-4139-BDCC-C4EEBFA8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7ED6-1E02-4C32-9776-049A422C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2D3D-448C-4C97-A624-2F2C81D0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7056F-0245-4597-8C70-92023C939B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