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55925"/>
        <c:axId val="43949459"/>
      </c:barChart>
      <c:catAx>
        <c:axId val="63055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49459"/>
        <c:crosses val="autoZero"/>
        <c:auto val="1"/>
        <c:lblAlgn val="ctr"/>
        <c:lblOffset val="100"/>
        <c:noMultiLvlLbl val="0"/>
      </c:catAx>
      <c:valAx>
        <c:axId val="43949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5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363-B60C-44F3-B471-6B718EEB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E49-D6F5-428A-B739-3937FB72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796-C336-4867-BDAC-14DA3895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ED7-DA26-4AE8-BB77-045484B4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DDE-117C-46EA-874C-1CEA79B4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51C-8F0D-4744-B95D-0073C571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910A-3BB4-4228-9AD7-0B70DF39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E67-99AE-4F70-A181-3BB67DE8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311-549E-447C-BD90-C0CDB9E5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1331-619D-4E18-A967-74090629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B145-F17A-4550-90B5-EF389B18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A1CF-115E-4F4F-B339-53F68121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475CD-5465-41B9-98AD-BFA3F69D79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