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70164"/>
        <c:axId val="86505543"/>
      </c:barChart>
      <c:catAx>
        <c:axId val="51770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05543"/>
        <c:crosses val="autoZero"/>
        <c:auto val="1"/>
        <c:lblAlgn val="ctr"/>
        <c:lblOffset val="100"/>
        <c:noMultiLvlLbl val="0"/>
      </c:catAx>
      <c:valAx>
        <c:axId val="86505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70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B36-8FC7-4C12-8E27-DA4FA462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3D6-48F4-4254-9D1D-D661BDD6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8ED-E70C-49BE-B13D-39994FBC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31E-12F0-4A7F-AB36-8632467A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38B-61B8-4083-9A51-F7B96A27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623-E0CE-4FDE-AC4D-B677A1AE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949-2F32-44A3-A1AD-BCC7C85F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BD8-1E80-4210-B890-3709DE88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7B6-0018-476D-AF62-00E31978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1C2-40F2-4D3F-90D2-248D2DFC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CC5-C23A-487A-84B3-A63FB0DC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583-F373-44DB-B831-64A00B35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19FC8-6E79-489F-8D01-5D60030F19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