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725381"/>
        <c:axId val="88689137"/>
      </c:barChart>
      <c:catAx>
        <c:axId val="71725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89137"/>
        <c:crosses val="autoZero"/>
        <c:auto val="1"/>
        <c:lblAlgn val="ctr"/>
        <c:lblOffset val="100"/>
        <c:noMultiLvlLbl val="0"/>
      </c:catAx>
      <c:valAx>
        <c:axId val="88689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25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047-3C60-4C09-92F6-41D4E064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AEA-AD03-4A90-8D0A-945F8243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2F7-5325-44AE-8FCD-551459E1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213-23F6-4908-872C-F58142C3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835-7F05-40E7-958E-51553058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13B-34D5-4BD8-B248-81E27D19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A76-0476-4BA7-978D-330AB1B5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994-CFA4-45DE-9D52-9F515DD2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044-0809-4FFB-AE00-358E65AF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4C4-C24D-4427-A4A7-C8C6FA07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ECF-0FF8-4766-82F4-5771966A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B84-6F6A-4DE2-99A8-B7D9D35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577C7-5EB6-4F84-BC4F-9BCB601DCF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