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7877"/>
        <c:axId val="2425666"/>
      </c:barChart>
      <c:catAx>
        <c:axId val="9667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666"/>
        <c:crosses val="autoZero"/>
        <c:auto val="1"/>
        <c:lblAlgn val="ctr"/>
        <c:lblOffset val="100"/>
        <c:noMultiLvlLbl val="0"/>
      </c:catAx>
      <c:valAx>
        <c:axId val="2425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7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60C-BAED-409D-8B5B-44F5C512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0FC-E64C-4111-8EBC-B3F9768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32A-7B84-4F93-B6C6-35414016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28B-CC3E-45ED-A7D5-4E74AEBB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CBC-229E-4D68-A4B0-D009C433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866-ACAA-4297-BDE7-5D77F4A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315-7038-44AF-BDC3-E01589DE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AE6-47BA-472A-9256-2F52911E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B18-0725-4103-AB71-7EB2B2D1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710-319B-4746-A56A-928E546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BCB-4F66-4D54-AE61-1061FED1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21C-5783-4F26-A1C8-72EF087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205A3-C9DB-4C90-8E09-C8149300E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