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67628"/>
        <c:axId val="10593148"/>
      </c:barChart>
      <c:catAx>
        <c:axId val="84667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93148"/>
        <c:crosses val="autoZero"/>
        <c:auto val="1"/>
        <c:lblAlgn val="ctr"/>
        <c:lblOffset val="100"/>
        <c:noMultiLvlLbl val="0"/>
      </c:catAx>
      <c:valAx>
        <c:axId val="10593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67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4A1-1D66-4B76-A54D-37789FA5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0D6-A078-48E9-B66A-3944AA4D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A04-7883-4F7D-B373-21E9F4FB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3EA5-5980-445F-BAA6-EF506B7D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BE3-1E25-4E1D-8D51-E26BDD6D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5AB-C93A-446F-8E5C-9D1653C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C39-A0B2-4C0F-BDCC-989EFEA2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CBC-7D2B-4438-AD03-4AF46BF1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403-8D27-473E-B48E-13C8E46F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8F1-54FD-4422-A4CD-D8507D3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C8D-4560-4836-865F-EFEF7346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4A5-31F0-486C-A213-63FB6D7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DC578-4ECE-41B8-82B8-FB6A75FD37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