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91108"/>
        <c:axId val="47195542"/>
      </c:barChart>
      <c:catAx>
        <c:axId val="48091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95542"/>
        <c:crosses val="autoZero"/>
        <c:auto val="1"/>
        <c:lblAlgn val="ctr"/>
        <c:lblOffset val="100"/>
        <c:noMultiLvlLbl val="0"/>
      </c:catAx>
      <c:valAx>
        <c:axId val="47195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91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7BC-205E-4E88-9C3F-F74C108D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2B5-0101-4ECA-A808-5418A31F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477-7848-46A7-8508-A35CA88E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D11-1851-4EEA-9999-755507F7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84E-10EA-46E2-B216-1E14EE43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A15-D450-4F55-ACED-E072FED2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ACB-42D3-45EF-A1FE-C089E047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A57-1779-4D35-AE6E-BC382817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764-3667-46F4-B7FE-853AC675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DF9-B1B6-481D-B668-5EA25B6D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334-BF95-48AA-9EC1-5C8DE0E4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682-202A-44E5-B67E-43F124A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B231E-0A58-4B84-A0E7-373A06DE7D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