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4586"/>
        <c:axId val="99911166"/>
      </c:barChart>
      <c:catAx>
        <c:axId val="7744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1166"/>
        <c:crosses val="autoZero"/>
        <c:auto val="1"/>
        <c:lblAlgn val="ctr"/>
        <c:lblOffset val="100"/>
        <c:noMultiLvlLbl val="0"/>
      </c:catAx>
      <c:valAx>
        <c:axId val="99911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4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EC3-5CF5-496B-BF89-EB99574F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04D-8913-4831-9F1B-6095E21A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274-C063-4357-A948-C5CC4702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19F-9AB7-456F-BA7F-E79D3DEC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1F9-89E5-49FD-B323-63E0278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CF2-0117-469E-8A77-A1F7CFCE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AC9-41C5-4838-9699-D3CF8A7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DBF-5AD0-4052-8150-F6DA1FB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43E-64E4-4BB1-B2A6-94664CDF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D99-21AF-4773-AB50-DBEBF25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B7F-2193-437A-8BB1-A1222EF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4E6-E2A6-4291-810A-8FC3449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8191D-5C25-484E-8D8B-DD84ECC6E7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