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21910"/>
        <c:axId val="56197894"/>
      </c:barChart>
      <c:catAx>
        <c:axId val="1021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97894"/>
        <c:crosses val="autoZero"/>
        <c:auto val="1"/>
        <c:lblAlgn val="ctr"/>
        <c:lblOffset val="100"/>
        <c:noMultiLvlLbl val="0"/>
      </c:catAx>
      <c:valAx>
        <c:axId val="56197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1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7B32-E7AC-4D61-A1F1-EA1CCD49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C697-BDB7-4F29-8E0D-F23D1AC7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FE6A-74D2-4163-B92B-C202431D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D551-1369-4334-871E-4E9754CA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DC95-5B3B-4943-B082-966F361F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3B4F-BA18-44C1-B5CF-91EC56DE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0E96-3A33-4AD1-8E11-763A63AD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CC6-C47A-4D9D-9B42-9CC12DAF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126D-1866-4EF3-81AA-C5F5D468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8FF1-A9A0-4526-A89F-83E72B3E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081A-5135-4640-A389-C6046AB4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495A-189A-4609-B985-66282B0F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9D40B-DB4C-427E-B0E1-E69D0ADC94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