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77477"/>
        <c:axId val="50258514"/>
      </c:barChart>
      <c:catAx>
        <c:axId val="165774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58514"/>
        <c:crosses val="autoZero"/>
        <c:auto val="1"/>
        <c:lblAlgn val="ctr"/>
        <c:lblOffset val="100"/>
        <c:noMultiLvlLbl val="0"/>
      </c:catAx>
      <c:valAx>
        <c:axId val="50258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774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C42-D693-4505-8397-904A67C8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477-C931-42BF-996F-C1DA924A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3A3-C91C-49B7-91EE-15406E57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4F0-9847-4C5D-89D4-07A3A2AA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2F3-9FB0-4E13-B21A-D26A02E7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AF3-A14F-4786-8E59-1347D57A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CFF-8877-4699-9DCA-BEBCB7D9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669-51AD-4668-96E9-F05B1DD7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970-2477-42C8-8994-2AA7517C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61E-03B8-4585-B89D-5C00D880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713-127D-47FF-A02E-49032448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29F-222B-406D-80B1-7BB898F6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CA3D9-4AD9-47AC-9491-5BCEE0281E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