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A3C27DE-7953-48C1-A9A5-C337D17D7329}"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0174EE5-53B1-4081-BBE1-EC4F42B443A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BEF9BC3-3BAB-41D3-B3A3-F7297ABF2AE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9AFCB0E-BDB8-43AA-BCA5-CE42EB30C24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1D6A689-593D-435E-8C68-B4B5D76C557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C854AE6-56A4-4893-B704-E9A54818777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562667D-40D9-44E5-85F2-CFA71832C61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9D8422C-5343-447C-AD60-5DFD58382F6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FB7EFE8-1687-4961-8FD8-B91CBF438AB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FFD6265-53D2-456E-8F11-D66D7089894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DD2E6E0-4F0F-4CB9-8BA8-2A83F96704F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8582210-C584-4C08-B22E-81A639E5EC7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5AA3D60-3074-4285-9846-00308BF1F25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B4247BD-8146-4521-9F18-5C8D532CE40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57B403C-C283-4938-8AF7-3BA1D418771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7F4033F-BF66-4A37-81EF-8961C28BC7C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E145283-B187-4FF2-8B78-960F9A2CE8B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178F8DC-9B96-4EC0-82BD-08835BD992C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431BBB1-4C30-422C-8E42-5635777C7E5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5686474-332F-4EE2-9452-5C649D6617E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B6C547D-D73F-470E-B2D5-9F6B004D184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B5D9268-66D0-4275-A054-956AD70F32C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8AD5F69-948D-41E5-8813-0FD9ECB42D8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24BC4B8-E1C4-42CB-9CDE-8239384346A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A14214B-DE37-4D01-9AAE-B5CA98CB625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2AA93DD-F8E4-4B4E-BFC6-93FEB05BFF7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A0AE995-FFFF-47DD-A700-A80060BA35F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2EBC31C-67EA-431E-A1AC-2C3AADC9C0E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1670272-ED66-45A4-9EEC-D44C5F44163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3816BCB-8180-4D3D-9032-F4F754D3692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961A365-3E3B-4EEE-B87D-39BAE80C4FA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75AF0E7-DB59-45BC-ACF5-A8DC142ACE5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FB616D3-A088-46E5-A290-1B10F7B782F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43105FB-F530-4D91-85F1-019ED92EEDF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656EC85-5DE3-42EE-A7DE-5FB9465D7F5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4DB70-8939-433B-BB6B-07F8B65EE8BD}"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354FD-388A-459E-BB3D-14CAAA1D68A5}"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32B888BE-C965-4BB4-82E5-845ACCC4E45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B5F7CBC-5526-48AA-9634-BF805AFF5737}"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5398887-ECA6-4F6C-A85F-D3CE16D7D403}"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81955DF-8A38-48CD-AE92-0FD5D2572F67}"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C7F898A-A790-4B08-9671-0EDE391FF4D9}"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99BF7FD-9F99-46ED-BA76-8B9DCA129C13}"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EDFDD50-AF3E-4871-95B9-715ECD84D546}"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A070199-7797-4B5F-BCD3-37D772BC6BC0}"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E5B9545-E920-46CB-B833-455D434684E0}"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58F9C9F-0296-4F14-A0D3-3565063C5000}"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381C15F-A104-4CBA-A598-F3ABD5520AED}"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30F3C27-0A83-4798-A06E-E84809A0DCFE}"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107F661-660D-4434-8C72-4E270C7F2466}"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329BD13-E71E-40F2-989A-BAEABDF2E723}"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94920B9-0BAD-4155-AC88-991C2EEBB07D}"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1C28BDA-FEF1-44AE-934F-802932B68CA3}"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2BD3E7C-E20E-4B6D-BF11-5B0A0413B12B}"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BE83912-8283-48D9-9166-FA7481124677}"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E57A5F93-8BAF-4BB0-B9F8-388C14F5307E}"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CFA97832-0FC3-48A0-B308-548BB5A67817}"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14AF6C7-3231-4ED2-967D-851D768C3862}"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0D7F198-7BEC-4123-A0C9-FE9DBF8D686F}"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1C193CC-4A11-4BDA-9AC0-1382578F2067}"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472DAA8-9E0B-4EBC-9F25-277FEA429C92}"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2100990-3D8A-4AA8-AB90-DDBA8B8A6C5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1FDF183-61D0-45F2-8936-09B42E3712D2}"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AD1E182-F2D3-43F0-AEEE-F2AE1397E37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5EA9C9E-B4BA-4C48-B5E2-00BA11D43B41}"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F4F7ADEF-2A2E-4533-8D16-A2982B9CAC5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F8B1AB9-9E05-4963-AD22-362E02DBFB1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6264489-2FAD-4934-BF72-770CE0FBFD7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126B992-F9BA-4EC8-9C4E-A9839E875CF6}"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14E7DAB-5BCB-4350-B02E-54B0B72C626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D5B88B9-475F-4EB9-A605-C1B8867B755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B16AA90-2D7D-4FA1-9F4C-2F5444B6A50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C35E862-DD64-4C1F-B461-AE9FA95F3060}"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97F3578-842E-4DB6-A76A-7B8721EAA3A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4B16EB0-301F-4012-AD33-F45FBD320E7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B6F4BD4-FE0A-42C9-8451-B65107EB0DA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38746ED-72B7-4D7C-A952-57CE9D90B117}"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C5B4D21-605E-4661-B20F-A515AA9A21F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497A51F-A844-4C4E-85E1-8B4AA799B74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B7483FF-2D37-4849-8494-36C0B71736F1}"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386D985-16AE-4354-A532-5E8BF33CE53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0BD4D5B-DDBF-4EA4-AA32-4F5E67379D2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EC490B9-B230-4C07-9CFB-1765679E9C2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265E3A4-ABD3-46E2-8125-74D457E6C53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AAF2D38-3902-47C1-9F33-4CF55AC7CD51}"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EB070B8-6694-4BB1-9A9A-7B5D1269B95F}"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FBE0B0B-D83E-4921-8141-233B57B10C69}"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A17B7A8-05F9-4958-BB68-BACDCFEE8747}"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764253B-DC1B-4757-8052-655BBD59795F}"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4CFA9B5-7251-41DF-ABE3-8B80577CFCDF}"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E756F09-4674-4E9B-9059-F645569A33D2}"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EB4F68F-7A8B-41DB-92E8-ABB3A39AE01B}"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12259C1-E7AC-4313-BE0F-315813934168}"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A4E1543-B586-42BF-B5BA-FB1B84F3116C}"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5B195BB-8EAD-438D-A244-7988B2FD06AD}"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EC8E811-1429-49E4-83B5-C78209B83E86}"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83CAC9C-4632-4240-98FF-AED1A47D675B}"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421A313-3DF4-422C-8B30-D9B311A3F1E1}"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8E5B5E0-4809-4F47-99F0-B29E50D8A2CA}"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DD9D53E-D486-4639-BBE3-103A7F59E44F}"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4DC5D1A-3E89-4A0E-B2F1-197B87C2D935}"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9B632D4-2318-4AE0-8509-E211E151F7AC}"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B0A10FA-3E6C-4370-9670-E3FF8E6611D9}"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6104F9E-A416-4ACE-A1EB-8D3D79024473}"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F17F575-0298-4125-A95B-48F307A1BE6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F869862-7F36-4586-A409-76F9DCC65A63}"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751DEEA-A4DE-4CD4-9818-144C53FE754F}"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CC2B826-8874-47BA-BB8C-A4BCF56B0D82}"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18ADE1B-0EB7-4793-87AB-80B1F8CCD2D2}"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BB5ED9A-0EC3-4A2F-8FD0-92AB8BE8567D}"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A58872B-F7BE-48E5-9D54-2A49F25E5D78}"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780CC73-A10A-44F0-A921-1AD1D4A7B526}"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694EDEB-8BD9-4976-87C1-F6BAF1BB3C1E}"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132469F-0239-4FE0-98BE-C14517DF5151}"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6234215-2173-486E-858E-09BF540EC9C6}"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7C1FC18-FD11-4BF6-B718-3139D94064D2}"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4CB5CD3-3D41-467C-A72A-5E67EE920354}"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BF5F98F-4B7F-4A2D-B52A-5B5B750D0B95}"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9442871-8B54-4B9F-B978-05D8785FBD30}"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FA0B7CE-7317-4719-AB44-65D6D5DA48E8}"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8EFFE54-EB36-4973-AFA3-AA1747698057}"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8394591-9B3F-40FA-9A04-20E1018D6E35}"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D0B53C5-90EB-4867-9287-3A4E81E4FFEE}"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279B254-A97C-46D7-BAA3-05DCAE6FFE27}"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DFF5C8A-0281-43CA-A7CC-29EE76DAEE96}"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AE09B07-231F-455A-8C1B-F65407C94C07}"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F5248D1-C5BB-44A0-B13C-D85608222098}"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6A98F2E-B581-4548-86D3-B7E7286C36A1}"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B2569B2-A08C-478B-BBD7-EC96E87DE0CE}"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410DAFE-C547-414D-897D-8BF11E3FB44B}"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968C5A7-2856-4521-A85D-540163D8EF5D}"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B758353-64D0-4F09-82AA-A15B23B326B0}"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C472F1F-5F75-419E-A2B8-77476D77A6B8}"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C06D376-9BA7-4FA2-BF4E-15B90A60C686}"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845049A2-D3D1-44C7-9CB0-692377B8C090}"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AECCA92-9FAD-4B9C-BCDC-AAFA2F1A4425}"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049321C-5AD0-48BE-8087-6819C07D6207}"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24D5C54-5C14-427A-8BE3-C3ECC9F7CF40}"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64AD722-CE0F-4986-9CBC-27EECB7B1ACC}"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85BFC9C-3464-41B2-9F73-DC8E6E6C6F11}"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58C93BD-7391-48B3-8CAF-C8E91C257FE4}"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31E8DEA-E532-4F5C-9300-4A45DAA4F4D8}"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5C24AE6-A412-45A6-97CC-B5B12B45AF8A}"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AD5DA14-AC74-48B0-B217-AC3600CCBDE9}"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30F6876-803B-486E-8D9A-CD2C45A4BBF6}"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FA01C46-6AD9-46C6-ADA8-F9B0C90BAD32}"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D1A384E8-82F5-4AC8-BE7A-AC5FF46525BF}"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950A412-E590-4EEA-A8F8-FC41E873B864}"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F9213C2-A450-4DB5-A5BB-530C598F0B6C}"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931FE92-27B8-42CB-9A9B-B27794F09E02}"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C97FF5E-0CC6-45CD-9E88-5207E1456D87}"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FE268DD-BD27-4EF5-9B86-C686263681E7}"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6099953-1E03-4612-A0A3-2A1E7313491B}"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13A3DC6-D717-49A4-BE8C-91BBBB4415D3}"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E3FA5F6-5B38-4D47-8923-BC14329364AA}"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6A509D5-5BF4-493A-A2E5-89F475D6E309}"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76E90B8-203E-4E56-B152-2A547085DC59}"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C901C8D-8B73-4A16-BA6A-9EB02ADABE5B}"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