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249249"/>
        <c:axId val="39500051"/>
      </c:barChart>
      <c:catAx>
        <c:axId val="68249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00051"/>
        <c:crosses val="autoZero"/>
        <c:auto val="1"/>
        <c:lblAlgn val="ctr"/>
        <c:lblOffset val="100"/>
        <c:noMultiLvlLbl val="0"/>
      </c:catAx>
      <c:valAx>
        <c:axId val="39500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49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449F-1552-46B6-BE00-2D777312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345-49DC-4043-AC47-5ABE26A2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67F-853E-44B1-A31B-5C22811D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68CD-ECA8-48E3-AA22-E3F10D1B5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B17F-67B8-4C93-B8D1-A051CFB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4F70-B534-4893-BBAB-579650BD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82E-26DF-4C6F-84EC-DB4F206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0E6-AE70-45DF-A048-83B89760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639-C66D-462A-931D-572D771A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BEA-DA5E-4857-B337-533C13F3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189-5D7D-4615-BF8E-2E4CEC07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956-E828-4F7F-A58E-67B95558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5232E-6643-4CCD-A981-9E907D176E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