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7975934"/>
        <c:axId val="95520612"/>
      </c:barChart>
      <c:catAx>
        <c:axId val="8797593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520612"/>
        <c:crosses val="autoZero"/>
        <c:auto val="1"/>
        <c:lblAlgn val="ctr"/>
        <c:lblOffset val="100"/>
        <c:noMultiLvlLbl val="0"/>
      </c:catAx>
      <c:valAx>
        <c:axId val="9552061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97593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8283-1BC3-4202-AB39-07F41D9AF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814A-AB07-41B2-B5EC-174E721C4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FA34-1CDF-4CB1-88A1-EFB428A5C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4209-E083-4994-AF11-9BEAE9448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ADEF-F409-48F2-830A-DDADC90A4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6B58-65AC-4A4D-AF8E-6F558B7C2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92E5-7FA0-4BD0-9958-F5A49D7BE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37C1-C673-48C0-94DC-B567130F1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E25D-E28B-417D-AEC7-E1F5AB79F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D1C3-FA0D-43F8-AF2E-275D1AB23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8E29-A6E9-4217-AC6C-D0762ACA6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84F4-9F36-44F9-A752-D63095FBC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31914D-9566-434E-A751-55B3BAC54E7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