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03215"/>
        <c:axId val="75950649"/>
      </c:barChart>
      <c:catAx>
        <c:axId val="27603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50649"/>
        <c:crosses val="autoZero"/>
        <c:auto val="1"/>
        <c:lblAlgn val="ctr"/>
        <c:lblOffset val="100"/>
        <c:noMultiLvlLbl val="0"/>
      </c:catAx>
      <c:valAx>
        <c:axId val="75950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03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A4B-96C2-4102-B27A-D794802C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782-25BF-4C8A-8389-A9446E6E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BFD-887A-4C71-8D4B-FDBAA2C6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41F-A4C7-471A-AB79-B18E2731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B56-DDD4-4281-A791-0D297A63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BFE-CDFC-4EB8-A69B-AF6F920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39C-3F69-4F0B-9E6B-A8337F15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687-B67E-4797-A4A6-B3DAD082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B5F-1B8F-49C9-ADB5-B956784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AC9-90DD-48E8-995B-8A19D0A6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EBE-2AE3-4EF3-8ADE-F8A06EAC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24A-2A47-44F4-B853-1F36162C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FBAC8-8B70-4DBC-86E6-A3D5D59687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