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397253"/>
        <c:axId val="31917102"/>
      </c:barChart>
      <c:catAx>
        <c:axId val="373972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17102"/>
        <c:crosses val="autoZero"/>
        <c:auto val="1"/>
        <c:lblAlgn val="ctr"/>
        <c:lblOffset val="100"/>
        <c:noMultiLvlLbl val="0"/>
      </c:catAx>
      <c:valAx>
        <c:axId val="319171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972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408C-51EB-477F-B257-7366DC7AE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EDDD-9B92-4F9A-9562-EF288433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7D2B-1C00-47FB-A08C-1CF581B5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E1D4-4B10-414D-8E20-D67DD3C56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8C02-4DFC-4180-8BC4-7B678932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A3F0-34F9-4235-B6D9-3D8DC794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6069-984C-478F-81D3-2CEF34E2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E68A-2470-4C82-9E0B-86D044BE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0176-856F-4FA7-A391-E3F2C28F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B992-A48B-4347-B1D2-8F42D88D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0D1D-0D97-4847-88AD-32C22BC9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76F1-898C-4F1C-A73F-FE4BA0BD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2955E-A22B-4F32-B5D1-0DC5A85FAC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