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70136"/>
        <c:axId val="21719413"/>
      </c:barChart>
      <c:catAx>
        <c:axId val="62270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19413"/>
        <c:crosses val="autoZero"/>
        <c:auto val="1"/>
        <c:lblAlgn val="ctr"/>
        <c:lblOffset val="100"/>
        <c:noMultiLvlLbl val="0"/>
      </c:catAx>
      <c:valAx>
        <c:axId val="21719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70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19C-E004-4D9C-B956-8F6585EC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BE3-0E83-4288-B6B0-6F5CBA2F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152-8704-4223-8B63-D30D010C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F29-07D9-4FE2-879E-F950A885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2CF-9866-4B0C-9DF4-4CD62720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959-F8A2-4A15-975A-E5DE965B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4F1-E1C0-4D56-9023-93E14F33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065-8A8D-475B-B6D4-BEDE4D78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A79-FE8C-429D-B52E-43F7C383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3F3-F254-4688-A8ED-F387E60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AE2-DE64-4AB9-9452-F5ABE986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F84-467B-41E4-A7CA-4D97BD30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27D08-0EF9-494E-8433-D20FFB8F1B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