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264166"/>
        <c:axId val="2120282"/>
      </c:barChart>
      <c:catAx>
        <c:axId val="402641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20282"/>
        <c:crosses val="autoZero"/>
        <c:auto val="1"/>
        <c:lblAlgn val="ctr"/>
        <c:lblOffset val="100"/>
        <c:noMultiLvlLbl val="0"/>
      </c:catAx>
      <c:valAx>
        <c:axId val="21202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2641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9041-2AA4-463C-B2C2-278F5DF31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5524-45DC-484C-831D-E593EA27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6C2B-68D3-43AD-8CA7-7BF3CEB16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AE80-84D0-4198-B504-A0CB714E8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48F9-8D72-4980-A86A-DE32B378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40BC-00EC-4B4A-A35C-2940C9FD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6E52-1E6E-4CD5-BA0B-339E8C7E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B12B-AC38-439D-8317-B0FF4762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A936-D244-4AF9-9B8F-CBF33143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FD1A-02C0-43CF-B2E2-BDB5DCF4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8F8B-91D3-474A-8C4D-534AA4E1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F600-86F7-4967-A45D-5F1918BA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8E66BB-F7AA-4A02-8204-A1C6469FD3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