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79200"/>
        <c:axId val="63019799"/>
      </c:barChart>
      <c:catAx>
        <c:axId val="48779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19799"/>
        <c:crosses val="autoZero"/>
        <c:auto val="1"/>
        <c:lblAlgn val="ctr"/>
        <c:lblOffset val="100"/>
        <c:noMultiLvlLbl val="0"/>
      </c:catAx>
      <c:valAx>
        <c:axId val="63019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9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F4E-3D4E-4E96-9F5C-BAED4B15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833-CAB2-46DC-853A-1B5DB3D1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E43-0426-4F54-9574-71924761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157-8C1D-4B75-9DA8-D774D646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208-B2DE-43A9-931A-E33E8538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C23-2CCD-4680-838C-D1B667D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9CF-1271-4CCB-801A-3F2E367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F62-0924-45B6-9700-8CFFBEE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7A7-5B4B-49B8-B232-22DC0A4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50B-7333-4F27-AC3C-393D349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F77-B5A3-4BD3-9EC6-7EEC1C2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B05-633D-4C68-875A-66EA7E6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47914-67F7-4219-B071-110DF85E8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