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56050"/>
        <c:axId val="17023875"/>
      </c:barChart>
      <c:catAx>
        <c:axId val="66356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3875"/>
        <c:crosses val="autoZero"/>
        <c:auto val="1"/>
        <c:lblAlgn val="ctr"/>
        <c:lblOffset val="100"/>
        <c:noMultiLvlLbl val="0"/>
      </c:catAx>
      <c:valAx>
        <c:axId val="17023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56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DD4-2F2A-42F5-9B23-99E89E2D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834-1812-45EB-852D-DAE83718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1AF-71A0-4E95-A82E-8C17BE02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C6C-3DFC-41D3-AB6D-28725DFD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D2-FE0D-4011-AFF1-2A40A49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F7-5B70-4B64-99D2-0E5E817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290-809E-4D9F-B00B-8C3D8CF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C11-0734-4FF0-8D5C-3558935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7AC-BF01-4340-A298-89EF993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7B8-CFC1-4C60-9335-F80AAA7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D72-3998-42F2-B6A7-582445D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444-0DF7-44E5-8E0C-747524D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FE26E-1247-4B27-8734-1DD3DAFB6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