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68904"/>
        <c:axId val="28461017"/>
      </c:barChart>
      <c:catAx>
        <c:axId val="57168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61017"/>
        <c:crosses val="autoZero"/>
        <c:auto val="1"/>
        <c:lblAlgn val="ctr"/>
        <c:lblOffset val="100"/>
        <c:noMultiLvlLbl val="0"/>
      </c:catAx>
      <c:valAx>
        <c:axId val="28461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68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C91-44C3-4705-B7AF-4EC2465B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CC3-3BFE-4164-A1A4-503D26AC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FE1-09B9-4A11-A997-FF08A8BF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D9D-7CAC-424A-A324-F219B967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14E-121E-42BA-A55B-9432DB41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8E0-58F7-43F1-9383-2E8AFACE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14F-4DB7-44B2-A1CF-FF7FB344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4B4-658C-4CD6-8743-88F48C25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739-FFC9-47F7-AFB3-04AB0D6C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725-7CB5-45FA-BE1A-37D56C7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D0B-5124-4D60-93A2-ABD015B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7E0-5FF5-41B6-88DB-28F6CAC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BBA02-8340-4FB2-8D87-A41F414438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